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C2E-6F86-48E4-A384-7EC242E6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476-55A6-45E5-AA53-2E17441D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7BD-B25F-4DAF-BE02-8B7310CD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30B-9943-4775-92A7-D746A12F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D34-5760-4FC0-B6F8-1FD89A7F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CCC-483C-492E-8B66-AC6ACF9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A71-C044-416E-B63D-9D968F25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8AD-8140-4AE7-AAFD-5C000869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FAC-1F4A-4491-833B-2DE7DF9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99D-BAF8-4E76-9F22-3257BE68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D2A-7D45-4A09-8AAF-2256D16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944-C38E-49D3-9333-51438ED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D8F-B7EF-48E7-B6A8-F8308F3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1F67-8439-4FC3-A654-B11E5B78A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.png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3.png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3.pn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3.png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acmemarkets.com/eCommerceWeb/LandingPageAction.do?action=begin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hyperlink" Target="http://blog.kir.com/archives/7-11.jpg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572000" y="380988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0" y="563868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4572000" y="5638680"/>
            <a:ext cx="4572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1 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V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r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666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x = 59.4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00"/>
                </a:solidFill>
                <a:latin typeface="Tahoma"/>
              </a:rPr>
              <a:t>Σ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x = 2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00"/>
                </a:solidFill>
                <a:latin typeface="Tahoma"/>
              </a:rPr>
              <a:t>Σ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x² = 124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x = 3.82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n 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Minimum = 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Quartile 1 =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Median = 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Quartile 3 =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Maximum = 68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11430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u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1). SRS                          1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2). Normal Population      2). 35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≥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 30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≥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 30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1447560" cy="106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696080" y="2209680"/>
            <a:ext cx="144792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y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86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-Ho: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= 60 Skittles per 2.17 oz. Bag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-Ha: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 ≠ 60 Skittles per 2.17 oz. Bag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One Sample T-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288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Test Stati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t* = x - 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304812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352680"/>
            <a:ext cx="838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/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√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50532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1148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P-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2 * P(µ &gt; -.8828) = .3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182880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egrees Freed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f = n-1 =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.88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(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75248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We fail to reject the null hypothesis because our p-value is greater than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= .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We have sufficient evidence that the mean number of Skittles per 2.17 oz. bag is 60 Skit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d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e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v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l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(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9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5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%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388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nfidence Level = x ± t*(s/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√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n) = (58.113, 60.7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We are 95% Confident that the mean number of Skittles per 2.17 oz. bag is between 58.113 and 60.744 Skit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160020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67652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l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905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81080"/>
            <a:ext cx="9144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We felt as though it was very tedious to count the amount of Skittles in each of the 35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It was time-consuming to travel to each of the 7 stores to obtain the required amount of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We agree with our T-Test results and feel as though where ever you choose to buy your Skittles from, you are getting a fair amount per bag for the p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905120"/>
            <a:ext cx="9144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Although Giant had the greatest average number of Skittles per bag, we feel as though it is unnecessary to go out of your way just to buy Skittles at Gi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We feel as though Mars Inc. fairly manufactures and packages their Skittles b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 7-11 Skittles bags are packaged most fairly and have an average of 60.2 Skittles per b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B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0968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Incorrect Skittles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Mistake entering data into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Obtaining Skittles at various stores</a:t>
            </a:r>
            <a:r>
              <a:rPr b="1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hose the first available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unting broken or deformed Skit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2514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ow Many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k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re In a 2.17 Ounce Ba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432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1148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4864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580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772400" y="0"/>
            <a:ext cx="137160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8277120" y="990720"/>
          <a:ext cx="86688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77120" y="990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277120" y="2133720"/>
          <a:ext cx="86688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77120" y="2133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277120" y="3276720"/>
          <a:ext cx="866880" cy="1143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77120" y="3276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277120" y="4419720"/>
          <a:ext cx="8668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77120" y="4419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990720"/>
          <a:ext cx="866880" cy="1143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0" y="990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2133720"/>
          <a:ext cx="866880" cy="1143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0" y="2133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276720"/>
          <a:ext cx="866880" cy="1143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0" y="3276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4419720"/>
          <a:ext cx="866880" cy="1143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0" y="4419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>
            <a:off x="13716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>
            <a:off x="27432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>
            <a:off x="41148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>
            <a:off x="54864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>
            <a:off x="6858000" y="5829480"/>
            <a:ext cx="1447920" cy="10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8305920" y="5562720"/>
          <a:ext cx="838080" cy="1295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8305920" y="5562720"/>
                    <a:ext cx="838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5562720"/>
          <a:ext cx="866880" cy="11430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0" y="5562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295280" y="4648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By: Ryan Riling &amp; Tom Dough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00200"/>
            <a:ext cx="51055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kittles production originated in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rst introduced to United States in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Owned by Mars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kittles factories are located in U.S, Victoria, Australia, and 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Advertising campaigns are associated with rainb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aste the Rainb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7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  <a:ea typeface="Tahoma"/>
              </a:rPr>
              <a:t>P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  <a:ea typeface="Tahoma"/>
              </a:rPr>
              <a:t>u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  <a:ea typeface="Tahoma"/>
              </a:rPr>
              <a:t>r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  <a:ea typeface="Tahoma"/>
              </a:rPr>
              <a:t>p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  <a:ea typeface="Tahoma"/>
              </a:rPr>
              <a:t>s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  <a:ea typeface="Tahoma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133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Tahoma"/>
              </a:rPr>
              <a:t>-We wanted to determine whether or not Mars Inc. (producer of Skittles) was fairly filling their bags with the claimed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Tahoma"/>
              </a:rPr>
              <a:t>-We decided to purchase 35 standard sized bags of Skittles (2.17 ounce) and test to determine if Skittles consumers are getting their money’s wo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 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28800"/>
            <a:ext cx="5029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Acme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Genuardi’s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Giant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Redner’s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CVS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Wawa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7-11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OTAL = 35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08160" y="3017880"/>
            <a:ext cx="6729480" cy="457200"/>
            <a:chOff x="1208160" y="3017880"/>
            <a:chExt cx="6729480" cy="457200"/>
          </a:xfrm>
        </p:grpSpPr>
        <p:sp>
          <p:nvSpPr>
            <p:cNvPr id="99" name=""/>
            <p:cNvSpPr/>
            <p:nvPr/>
          </p:nvSpPr>
          <p:spPr>
            <a:xfrm>
              <a:off x="1208160" y="3017880"/>
              <a:ext cx="42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30440" y="3017880"/>
              <a:ext cx="5832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2800" y="3017880"/>
              <a:ext cx="4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066680"/>
            <a:ext cx="5410080" cy="992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2743200" cy="892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324480" y="3124080"/>
            <a:ext cx="2819520" cy="1860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886200" y="1066680"/>
            <a:ext cx="2743200" cy="123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191120" y="2971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867280" y="5029200"/>
            <a:ext cx="3094200" cy="161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19720" y="4753080"/>
            <a:ext cx="15238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D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752480"/>
          <a:ext cx="8686800" cy="28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6868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G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762120"/>
          <a:ext cx="8915400" cy="53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154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G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 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(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.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00200"/>
            <a:ext cx="0" cy="3733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334120"/>
            <a:ext cx="62485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6576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429000"/>
            <a:ext cx="0" cy="6094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733920"/>
            <a:ext cx="914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3429000"/>
            <a:ext cx="0" cy="6094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429000"/>
            <a:ext cx="2133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4038480"/>
            <a:ext cx="2133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429000"/>
            <a:ext cx="0" cy="6094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6576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3733920"/>
            <a:ext cx="15238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410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5410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410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5410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5410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5410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5410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1295280"/>
            <a:ext cx="48006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Five Number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Minimum = 53                         Quartile 3 =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Quartile 1 = 56                        Maximum = 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Median = 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8672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Number of Ski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72200" y="3581280"/>
            <a:ext cx="278136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No Outliers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m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990720"/>
            <a:ext cx="5943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  5  5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  6  6  6  7  7  7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  8  8  9  9  9  9  9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  2  2  3  3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  4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066680"/>
            <a:ext cx="0" cy="5334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37160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hape = Roughly Sym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enter = 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pread = Minimum – 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Maximum – 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1:36:22Z</dcterms:created>
  <dc:creator>Mobile Lab 2</dc:creator>
  <dc:description/>
  <dc:language>en-US</dc:language>
  <cp:lastModifiedBy> </cp:lastModifiedBy>
  <dcterms:modified xsi:type="dcterms:W3CDTF">2007-06-07T02:21:36Z</dcterms:modified>
  <cp:revision>21</cp:revision>
  <dc:subject/>
  <dc:title>PowerPoint Presentation</dc:title>
</cp:coreProperties>
</file>